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796088" cy="10075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796800" cy="10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0"/>
          </p:nvPr>
        </p:nvSpPr>
        <p:spPr>
          <a:xfrm>
            <a:off x="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1"/>
          </p:nvPr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393AF98-515D-416F-9C08-66DB6E6DBD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0542159-2DD6-41D9-A600-DF33253BF69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6FD521E-6CD9-4E8A-BE31-11713559AAA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00BFAD8-7A8F-4BBB-9D35-3459946FC72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921E69D-C816-491E-AB71-F7D396F4925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7915065-F72C-4D4E-B079-2A6D04FE843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A33EF14-D72B-45E7-928B-727FE0C52F4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FE12AA8-3015-42B1-BC14-0E05B505C05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82FBF81-7D2A-41B7-9926-B6C9229E794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47FD70F-EB49-4817-97F1-168776C187A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1EC7EE8-4731-44F0-AAD6-6FC9732F51A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EDD5F7D-7979-4BBE-BD7A-33C51FE9DB4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0358F50-6C7E-4A37-9DF7-0176C733D80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16F697A-027E-41B6-A44F-E7324C1F5E0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0EF3787-13AE-4524-8F44-B7AF159EFC6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12CB762-ECAF-48B9-8D38-6087ECA6571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7818675-4ADC-4338-B96D-CC8CD8D086D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0C793B9-A19D-4B76-822B-AA04448E0DE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D43B3EC-9075-4BF0-97B7-12D575E5F72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951B61F-74B3-4290-B451-4CC6054B875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BF3D30B-14BD-4787-93BE-F6A75155A01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05FDD1F-C7FB-4260-A61E-7DFF57A2C51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B665E81-6549-42D5-9F0B-6F1BC3341F0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083CF3E-4F09-49EA-A2CD-B4900D28185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339CB43-8223-415C-8FE4-DA4E300C05B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4AAF1C8-7C63-4AE0-BC55-7016F275DFB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A2E2C2F-327B-4A14-BC28-84383F6B97A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K 6.265 str. 1 d. Jeigu asmuo, kuris nėra darbuotojas, vykdydamas kito asmens, kuris nėra darbdavys, duotą nurodymą, padaro žalos, tai abu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e asmenys atsako solidari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nimas -&gt; CK 6.718 str. 3 d. Paslaugų teikėjas privalo teikti paslaugas pagal sutarties sąlygas ir kliento nurodymus. Jei kliento nurodymai 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tarauja sutarties įstatymams, nusistovėjusioms profesinės veiklos taisyklėms, standartams, profesinės veiklos etikai ar sutarties sąlygoms, paslaugų teikėjas turi teisę atsisakyti vykdyti tokius nurodymus ir sutartį nutrauk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ektroninės komercijos direktyva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nustato atsakomybės i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mtis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mere conduit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tiesiog elgesio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kai paslaugų teikėjas nežino, kokia informacija siunčiama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laikino saugojimo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informacijos saugojimas) atvejais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atveju būtinos sąlygos yra nežinojimas, kad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 informacija ką nors pažeidžia, bei informacijos pa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alinimas nedelsiant gavus tokią informacij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6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7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0CB229B-2C17-4DD1-9AFE-30C7E36B2FB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3A100AF-F62C-4B27-BEF6-FE20B5EA5CD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45BF145-48C8-4BBC-812E-5D3B1F036F8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191D4BD-E328-4E55-8558-10534E392B3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A5A9B49-9A6A-4AE0-B574-74ED725E842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2915BF2-EBF5-4756-97FD-A74ABFF45A0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3CAF467-3E11-43D1-9D34-8880C3083E7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95F8101-CA0D-432A-BA76-C7A094EFD42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C608922-8BBE-4065-A1C2-8C389C023EB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C602B8E-473B-4558-AB31-163FEAD8D28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6B469B0-6D20-444B-912A-46EF40BB5B6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99C-6CFC-44AA-BFA1-36595E7B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3B0-84A1-4B72-B088-6CB70C1A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34F-6A05-4DAB-A7DA-208E0A16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D8A-01D3-4300-A6F7-83B24A06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CE4D-C3D2-4C36-A8C3-A27DD629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292E-C7B0-4483-BEA5-7F7E72CE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8F00-4A52-4A54-BA1A-F2100F30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F5B4-6506-4660-ADA2-D487B338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AC6-C179-433A-946E-AD8AE31B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E5FA-17E2-4FB7-AC34-162A27A4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DF1B-7C53-4241-85EB-33DA6776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1ED-7E93-4D94-B435-624E0885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5E23-C2A5-4B61-8418-5605E39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F4DB-B339-40BE-8754-785BD5D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BFBD-05FF-4482-B159-C583E908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5554-5A2D-4822-811D-CFAE021C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569D-AE35-4DF1-97A9-543FED9D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DB53D-17ED-4E41-AA2E-AC2EEC3EE1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65E5F-88FC-4643-BBB6-4FA2CC0947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532E8B-239E-41E4-B114-2DBCDA128F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059A6-8851-4FCE-9D1B-A51D2D1F3D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9F9B6-FC62-4E27-BB9A-CF933ACEE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24C-E615-4ED9-81E1-7DCD68DC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30C85-E28F-4D4A-840D-695FB385EF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76DAE3-B75D-437D-9711-BE117072C2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EF0E8-67B2-40DC-8DD0-74502599B2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157AA-98C2-4D20-AD50-67F8B033AF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49143-0924-414C-925D-5928B37D12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25BFD-8843-4256-9891-1921614256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F5429-66CE-42F4-BF0B-58249CDA59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5A952-9CE2-41F3-BB9A-3F18913E66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FAB48-33AD-445B-91B7-2776D1D1A0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E2CFB-7868-4087-8ED7-FBA639FFD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B4D-3B33-4016-BF70-F40FEAAD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CEE84-FD2F-47FD-9E57-B97BEA6648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AB653-56F7-450F-93AC-04948442EB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37AC1-8381-4ED7-9343-7A4E9DAB0B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91520-E18F-410B-A944-E93863E10D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665F7-DBDA-4E27-8724-E4B5B11447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838FA-6C1D-431D-BCE7-13E7E331A1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BF390-92FA-4723-B7A6-85D5B81CDB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E821A-EB68-45B6-8CE4-F29279570D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9C244-3C8C-478A-90E0-304F18399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EDD-0BEA-4388-AFFE-AB34E975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788-30E8-424D-BA0B-F3493685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F83-5374-4FF6-B07F-D6B3BB3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2FA-2DCD-4BC4-AAAF-1290D50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EDE-0F56-4671-860D-DCB06ED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-01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3581280"/>
            <a:ext cx="58752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4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8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ės komercijos teisinio reguliavimo pagrin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Funkcinis ekvivalentišk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alios erdvės institutų perkėlimo į elektroninę erdvę (pritaikymo šiai erdvei užtikrinimas) pagal šių institutų funkcij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dokument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udarymas galimybių, kad būtų įskaitomas; liktų nepakeistas bėgant laikui; galima būtų padaryti dokumento kopiją taip, kad kiekviena iš šalių turėtų tuos pačius duomenis; galima būtų patvirtinti duomenis parašu; pateikti formą, kuri būtų priimtina valstybės institucijoms, įskaitant teism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paraš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uoti asmenį; užtikrinti, kad pasirašymo veiksme asmuo dalyvavo asmeniškai; susieti asmenį su konkrečiu dokumentu (patvirtinimas, kad autorius patvirtino dokumento turinį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utarčių laisv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idžia sutarčių šalims (ypač verslas - verslui komercijoje) laisvai nusistatyti tarpusavio santykių principus ir formas ir įpareigoja valstybę pripažinti tokias sutartis (taip pat ir apsaugant iš jų kylančias tei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o parašo įstatymo 8 str. 3 d.: elektroninis parašas visais atvejais turi šio straipsnio 1 dalyje įtvirtintą teisinę galią (t.y., tokią pat teisinę galią kaip ir parašas rašytiniuose dokumentuose ir yra leistinas kaip įrodinėjimo priemonė teisme), jeigu parašų naudotojai tarpusavyje dėl to susita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ska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iek tai įmanoma valstybė turi ne pati kištis, o skatinti, kad normas bendru sutarimu kurtų elektroninio verslo dalyviai ir juos atstovaujančios organizacijos (panašu į darbo santykių reguliavimą, kai darbuotojai su darbdaviu pasirašo kolektyvinę sutartį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smens duomenų teisinė apsauga ir vartotoj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pareigoja valstybę ir kitus subjektus saugoti fizinių asmenų privatumą bei užtikrinti sąžiningą elgesį su jais prekybiniuose santykiuose (taip pat ir elektroniniame vers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o principo nuoseklus taikymas ugdo vartotojų pasitikėjimą elektronine komercija ir skatina vartojim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ugumo užtikr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mpa aktualesnis, kai elektroninė komercija atsiveria (naudojama ne uždaroje grupėje) ir naudoja globalius tink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NISA – Europos tinklų ir informacijos apsaugos agentūra (Heraklionas, Kreta, Graikij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is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atitikti tarptautinius teisės aktus, ir užtikrinti, kad teisiniai santykiai, atsiradę pagal vienos valstybės įstatymus, bus lygiaverčiai pripažįstami kitose valstybė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kišimasis (proporcingum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būti minimalus būtinas pasiekti konkretų tiksl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utorių teisių ir gretutinių teisi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jant informacines technologijas šias teises tampa vis lengviau pažeisti, todėl turi būti skiriamas specialus dėmesys autorių teisėms ir gretutinėms teisė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umas, prognozuojamumas, teisinis tikrumas ir teisėti lūkesčia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statymų leidyba ir teisės aktai turi užtikrinti, kad teisinis reguliavimas būtų aiškus ir nuspėjam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s principas apima ir 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retro non agit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(lot. Įstatymas negalioja atgal) taisykl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ės sutart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uropos Sąjungos, Europos Taryb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valomi viršnacionaliniai teisės ak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Reglamentai, direktyvos, sprendima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statymai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rmiausia – Civilinis kodeks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oįstatyminiai teisės aktai (</a:t>
            </a:r>
            <a:r>
              <a:rPr b="0" lang="lt-LT" sz="1600" spc="-1" strike="noStrike">
                <a:solidFill>
                  <a:srgbClr val="003366"/>
                </a:solidFill>
                <a:latin typeface="Arial"/>
              </a:rPr>
              <a:t>Vyriausybės nutarimai,  ministrų įsakymai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pročiai, doktrina ir tarptautinių organizacijų dokumen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urin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a teisės sistem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eguliavimo dalykas ir meto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ltini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. Beliackas v. UAB “Sabina” (elektroninių įrodymų pripažin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Lietuvos telekomo verslo sprendimai” ir AB “Lietuvos telekomas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D.B.S. Pte. Ltd.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ės organizacij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Bendrija (Europos Sąjung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iršnacionalinis pobūd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konominės plėtros ir bendradarbiavimo organizacija (OEC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o prekybos organizacija (WT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ungtinės tautos – Tarptautinės prekybos teisės komisija (UNCITR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ntelektinės nuosavybės organizacija (WIP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iai prekybos rūmai (IC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uropos Bendrija (Europos Sąjung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9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0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komercijos 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lektin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ės nuosavybė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teisi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ivatinės teisės harmon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konominės plėtros ir bendradarbiavimo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Centrinis tarptautinis išsivysčiusių valstybių forumas, kuria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pibendrinama įvairių valstybių prakt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eškoma unifikuotų e-komercijos sureguliavimo modeli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BPO rekomenda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eisiškai neprivalo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įtvirtina stiprius valstybių-narių moralinius/politinius įsipareigojimu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ekretoriato atlikta analizė, surinkti duomenys valstybėms-narėms padeda efektyviau atlikti koordinuotą darb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prekybo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saulinės prekybos liberal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TS – bendrasis susitarimas dėl prekybos paslaugom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IPS – susitarimas dėl intelektinės nuosavybės aspektų, susijusių su preky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Jungtinių tautų tarptautinės prekybos teisės komis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ekybos teisės harmonizavimas ir kod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6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ės komercijos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1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ių parašų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intelektinės nuosavybė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ų sutarčių intelektinės nuosavybės srityje rengimas ir administr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utorių teisi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tlikimų ir fonogram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omenų vardų, kaip galimai naujų intelektinės nuosavybės objektų, statuso tyrimai ir susijusių ginčų sprend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olektyvinis reguliavimas, siekiant suderinti bendrus interesus be valstybės pagalb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jusi su elektroninės komercijos reguliavimo evoliucija 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electronic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val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reitas, pigus ir efektyv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žeidimo pašal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mybė reaguoti į nepriimtiną, nors teisėtą elges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Masinis komercinis paštas iki 2001 01 01 Lietuvoje nebuvo draudžiamas teisės aktais, bet buvo reguliuojamas bendrų savireguliacijos priemoni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trūk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ėra tiesiogiai priverstinai įvykdo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Gali būti taikomos sutartinės sankcij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miamasi savireguliacija kaip paproči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 tapti didesnę įtaką turinčių interneto subjektų (pvz., interneto paslaugų teikėjų) piktnaudžiavi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Visada išlieka valstybės nustatytos taisyklės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konkurencijos teisė, vartotojų apsauga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ieta teisės sistem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ės komercijos teisė – pirmiausia komercinė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endrosios komercinės teisės institutai (šalys, sandor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odifikuoti institutai (elektroninis parašas, elektroninė sutart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ordinatė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ošakis – komercinė; šaka – civilinė; privatinės teisės dal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x mercatoria – viduramžiuose susiformavusi paprotinė komercinė (pirklių)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alogiška elektroninės komercijos teisės pradž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uo pat pradžių buvo nereguliuojamas valstybės, o dauguma elgesio taisyklių susiklostė kaip savireguliacijos sukurti paproči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ėra ribojamas valstybių sienų, todėl sunku taikyti konkrečios valstybės prievartos priem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resursai dažniausiai valdomi privačių subjekt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ai, kaip interneto resursų turėtojai, dažnai atsiduria tarp pažeidėjo ir nukentėjus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ų teisinės atsakomybės už vartotojų skleidžiamą informaciją įtvirtinimas teisės aktu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formalių elgesio taisyklių skatinimas teisės akta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eisminių ginčų sprendimo būdų skatinimas (pvz., domenų vardų galimo piratavimo (angl. cybersquatting) ginčų sprendimas arbitražo forma ne teis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iqu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FC 1855, RFC 108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mus elementarių pageidautino elgesio internete taisyklių rinki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isyklių 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siųsti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ar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ų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(piktų) žinučių (angl. fl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i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la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vien didžiosiomis raidėmis (TAI LAIKOMA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AUKIM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ternet Corporation of 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gned Names and Numbers (ICAN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kurta 1998 m. perėmė funkcijas iš JA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pelno organizacija, atsakinga už IP adresų ir domenų vardų naudojim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Direktoriai renkami interneto subjektų (5 iš 19 tiesioginiais rinkimais renka interneto vartotoja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990000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28440" y="2361960"/>
            <a:ext cx="7986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iform Domain Name Dispute Resolution Policy (UDR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Sukurtas pagal Pasaulinės intelektinės nuosavybės organizacijos (angl. WIPO) rekomendacij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Įtraukiama į daugelio bendrinių domenų vardų (gTLDs) registravimo sutarti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Ginčus sprendžia nepriklausomų (ICANN paskirtų) organizacijų sudarytos kolegijos (administrative pane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Rezultatas: domeno vardo perdavimas kitam subjektu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Nedraudžiama spręsti ginčo teisme (tai nėra arbitraža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Dauguma ginčų baigiama be nagrinėjimo teis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il Abuse Prevention System (MA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 sąrašą įtraukiami IP adresai, iš kurių masiškai siunčiamas nepageidaujamas komercinis paš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grindiniai Interneto paslaugų teikėjai (pvz., Teleglobe, EUnet International, kt.) blokuoja informaciją, kuri siunčiama iš/į šiuos adres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guliavimo objektas ir meto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Objektas - elektroninė komercija (visuomeniniai santykiai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varbiausia ne santykių objektas (iš esmės tapatus bendrajai komercinei teisei), o vykdymo bū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Metod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yraujantis dispozityvus (ypač B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 komerc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ygios šaly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mperatyvaus metodo elementai (ypač vartotojų apsauga, asmens duomenų apsaug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Administracinis pavaldu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dovaujančios idėjos, esančios reguliavimo pagrin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j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glamentacin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ės aišk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ragų pildy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lizijų šal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formos nediskriminav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nio neutralumo (atvir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nio ekvivalentišk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os skat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teisinės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ugumo užtikr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o pripaž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aus kišimosi (proporcing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utorių teisių ir gretutinių teisi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umo, prognozuojamumo, teisinio tikrumo, teisėtų lūkesči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ės formos nediskrimin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formacijos teisinis efektyvumas, galiojimas ir įgyvendinimas negali būti paneigtas vien tik tuo pagrindu, kad ši informacija yra elektroninis duomenų praneš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NCITRAL Model Law on Electronic Comme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vz., el. parašas negali būti laikomas negaliojančiu dėl to, kad yra elektroninis (Elektroninio parašo įst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tr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nis neutral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ės aktų (ar valstybės politikos) siejimo su konkrečiomis technologijomis veng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ualumo principas - leidžia diferencijuoti skirtingas technologijas pagal jų patikimumą (elektroninis parašas, saugus (angl. advanced) elektroninis parašas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08:50Z</dcterms:created>
  <dc:creator>Tomas Lamanauskas</dc:creator>
  <dc:description/>
  <dc:language>en-US</dc:language>
  <cp:lastModifiedBy>Egle</cp:lastModifiedBy>
  <dcterms:modified xsi:type="dcterms:W3CDTF">2008-10-04T08:13:07Z</dcterms:modified>
  <cp:revision>27</cp:revision>
  <dc:subject/>
  <dc:title>PowerPoint Presentation</dc:title>
</cp:coreProperties>
</file>